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D159B-8300-428C-A892-60E1975BF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DC7FA-B45C-4788-BAC6-3AE961D3E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9538C-77B0-423D-A3BC-65A85CF1A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44F26-1D2C-4667-BD96-56E33204B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60C6B8-BC21-45F7-A27C-FEF0F02FB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82A90-1668-4B91-8DCD-DCAC529A6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9B227-8939-4746-B217-CBA7ED373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0452F-3652-48B9-9512-90E66F26C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83432-1F12-4452-A999-C71192F680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ADFD0B-0C62-40C9-94AA-906EA662C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F224B-44D8-4C0F-BF4B-60BE422A9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D6CDD-8D1E-461F-946F-84DCFBED3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9F332-28D0-45E6-9C55-E1B5635D1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840A8-0F73-419E-B1CA-AFBC48161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22F0EC-15EE-4BF7-BE84-AAC926F68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D7DED-1B34-4E30-9BF0-12ED49248E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7D9C86-B8C3-4C27-BEA6-552F15EC9B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6C13A8-D6D5-4C1B-9ED9-3A98E8BFED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17DCDB-F885-4D76-B334-87E7D91AEF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80A860-4785-42DC-8576-674654A371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F9BC7C-0578-453D-B0DA-9B8E74D9FD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291FE7-EEB1-45AD-BC27-6E068F0B9A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87A2E-0A21-4AA2-8A33-5CA3A7627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367F8F-DB47-4412-B546-AA3A0A1687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3D86A5-4743-42CB-883F-685FA2AE6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F9150B-9B6A-4890-84C5-10442CD369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847B4A-AE06-4FAE-89CF-ED922E3513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9E7468-C4F3-4127-A617-D6954C05EF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61150B-9D99-4D2F-8610-84A848869C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7AEF13-4755-43E3-B58E-D8B6607EB0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1D2B66-0766-439E-88FF-298104053D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C16DEB-F2E0-48AE-86A9-648C57E7B3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116A57-4511-44E0-9F79-4B70C162EC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A556E-FCE6-44AA-B609-C099B3920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4697BF-9B7E-49D0-8734-DD05E04D56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DDBBE8-505F-4400-AA46-915945E2B5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28C240-31D6-4760-9706-0E68DD8487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731C30-80C7-4254-80D1-3D846B60C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A64E5C-5615-4194-AB44-09600A4F8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41A16-AE89-4853-A937-E9CC4B30FC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5C1674-9798-438B-A6FA-E2C9A0400C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BEE19A5-53A1-4634-AE87-DFDF16EE42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6D4BA0-ED7E-4B75-8949-CF98465035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593D6-3B45-423A-9972-7711ECB09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FDDA7-AFE8-4CB4-8652-7A996727C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A97B5-4481-4ABA-80E7-F547E7BFC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F37B1-835A-4008-9375-F56F9DF10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63255-57C6-4718-86DF-FC7C16F463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A314-9527-4D61-8DAE-02D74C0EBEE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8F34-842D-4D95-8B0B-6F4FD595E51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30D71-4662-4205-8AA7-A2DFAD99D1F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6049C-2D66-4C0B-A118-4173E3ED545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438120" y="682560"/>
            <a:ext cx="8420040" cy="2511360"/>
          </a:xfrm>
          <a:prstGeom prst="rect">
            <a:avLst/>
          </a:prstGeom>
          <a:ln w="0">
            <a:noFill/>
          </a:ln>
        </p:spPr>
      </p:pic>
      <p:sp>
        <p:nvSpPr>
          <p:cNvPr id="196" name="PlaceHolder 1"/>
          <p:cNvSpPr>
            <a:spLocks noGrp="1"/>
          </p:cNvSpPr>
          <p:nvPr>
            <p:ph type="subTitle"/>
          </p:nvPr>
        </p:nvSpPr>
        <p:spPr>
          <a:xfrm>
            <a:off x="533160" y="3228840"/>
            <a:ext cx="7854840" cy="2943360"/>
          </a:xfrm>
          <a:prstGeom prst="rect">
            <a:avLst/>
          </a:prstGeom>
          <a:noFill/>
          <a:ln w="0">
            <a:noFill/>
          </a:ln>
        </p:spPr>
        <p:txBody>
          <a:bodyPr lIns="0" rIns="18360" tIns="46800" bIns="46800" anchor="t">
            <a:noAutofit/>
          </a:bodyPr>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Prepared by:</a:t>
            </a:r>
            <a:endParaRPr b="0" lang="en-US" sz="1800" spc="-1" strike="noStrike">
              <a:solidFill>
                <a:srgbClr val="ffffff"/>
              </a:solidFill>
              <a:latin typeface="Constantia"/>
            </a:endParaRPr>
          </a:p>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Donna Christian</a:t>
            </a:r>
            <a:endParaRPr b="0" lang="en-US" sz="1800" spc="-1" strike="noStrike">
              <a:solidFill>
                <a:srgbClr val="ffffff"/>
              </a:solidFill>
              <a:latin typeface="Constantia"/>
            </a:endParaRPr>
          </a:p>
        </p:txBody>
      </p:sp>
      <p:pic>
        <p:nvPicPr>
          <p:cNvPr id="197" name="Picture 3" descr=""/>
          <p:cNvPicPr/>
          <p:nvPr/>
        </p:nvPicPr>
        <p:blipFill>
          <a:blip r:embed="rId2"/>
          <a:stretch/>
        </p:blipFill>
        <p:spPr>
          <a:xfrm>
            <a:off x="457200" y="3124080"/>
            <a:ext cx="5257800" cy="3143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62120"/>
            <a:ext cx="8153280" cy="83808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4617b"/>
                </a:solidFill>
                <a:latin typeface="Arial"/>
                <a:ea typeface="Arial"/>
              </a:rPr>
              <a:t>Website #1- http://life.familyeducation.com/cellular-telephones/school/51264.html</a:t>
            </a:r>
            <a:endParaRPr b="0" lang="en-US" sz="2500" spc="-1" strike="noStrike">
              <a:solidFill>
                <a:srgbClr val="04617b"/>
              </a:solidFill>
              <a:latin typeface="Calibri"/>
            </a:endParaRPr>
          </a:p>
        </p:txBody>
      </p:sp>
      <p:sp>
        <p:nvSpPr>
          <p:cNvPr id="199" name=""/>
          <p:cNvSpPr txBox="1"/>
          <p:nvPr/>
        </p:nvSpPr>
        <p:spPr>
          <a:xfrm>
            <a:off x="457200" y="1752480"/>
            <a:ext cx="4038480" cy="5105520"/>
          </a:xfrm>
          <a:prstGeom prst="rect">
            <a:avLst/>
          </a:prstGeom>
          <a:noFill/>
          <a:ln w="0">
            <a:noFill/>
          </a:ln>
        </p:spPr>
        <p:txBody>
          <a:bodyPr lIns="90000" rIns="90000" tIns="46800" bIns="46800" anchor="t">
            <a:normAutofit/>
          </a:bodyPr>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website was very supportive as the reasons why cell phone should not be allowed in school.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site pointed out that most  administrators regarded cell phone use as disruptive and distracting, and have implemented policies that prohibit using them on school grounds.</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site also provide two pools, the  first one asking: “Should schools allow  cell phones? “The second asking: “Should you allow your child to take a cell phone to school?”</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addition, the links embedded  within the site directed you to baseball advertisements.</a:t>
            </a:r>
            <a:endParaRPr b="0" lang="en-US" sz="1600" spc="-1" strike="noStrike">
              <a:solidFill>
                <a:srgbClr val="000000"/>
              </a:solidFill>
              <a:latin typeface="Constantia"/>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Cons:</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ents often forget to turn off their phones in class, and ringing noises or text-message alerts disrupt learning. </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ven if set to silent, cell phones can still cause distraction, since</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0" name=""/>
          <p:cNvSpPr txBox="1"/>
          <p:nvPr/>
        </p:nvSpPr>
        <p:spPr>
          <a:xfrm>
            <a:off x="4648320" y="1676160"/>
            <a:ext cx="4038480" cy="4678200"/>
          </a:xfrm>
          <a:prstGeom prst="rect">
            <a:avLst/>
          </a:prstGeom>
          <a:noFill/>
          <a:ln w="0">
            <a:noFill/>
          </a:ln>
        </p:spPr>
        <p:txBody>
          <a:bodyPr lIns="90000" rIns="90000" tIns="46800" bIns="46800" anchor="t">
            <a:normAutofit fontScale="99000"/>
          </a:bodyPr>
          <a:p>
            <a:pPr marL="270000" indent="-2700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ext messaging has become a high-tech method of passing notes in school. </a:t>
            </a:r>
            <a:endParaRPr b="0" lang="en-US" sz="1600" spc="-1" strike="noStrike">
              <a:solidFill>
                <a:srgbClr val="000000"/>
              </a:solidFill>
              <a:latin typeface="Constantia"/>
            </a:endParaRPr>
          </a:p>
          <a:p>
            <a:pPr marL="270000" indent="-27000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ents have been known to use cell phones to call in bomb threats to schools, to avoid or condense class time. </a:t>
            </a:r>
            <a:endParaRPr b="0" lang="en-US" sz="1600" spc="-1" strike="noStrike">
              <a:solidFill>
                <a:srgbClr val="000000"/>
              </a:solidFill>
              <a:latin typeface="Constantia"/>
            </a:endParaRPr>
          </a:p>
          <a:p>
            <a:pPr marL="270000" indent="-27000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n the event of a widespread crisis, rampant cell phone use can overload communication systems and render them inoperable. </a:t>
            </a:r>
            <a:endParaRPr b="0" lang="en-US" sz="1600" spc="-1" strike="noStrike">
              <a:solidFill>
                <a:srgbClr val="000000"/>
              </a:solidFill>
              <a:latin typeface="Constantia"/>
            </a:endParaRPr>
          </a:p>
          <a:p>
            <a:pPr marL="270000" indent="-27000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udent cell phone networks add to the spread of rumors and misinformation, which can be harmful during a widespread crisis. </a:t>
            </a:r>
            <a:endParaRPr b="0" lang="en-US" sz="1600" spc="-1" strike="noStrike">
              <a:solidFill>
                <a:srgbClr val="000000"/>
              </a:solidFill>
              <a:latin typeface="Constantia"/>
            </a:endParaRPr>
          </a:p>
          <a:p>
            <a:pPr marL="270000" indent="-27000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hones can be used as cheating devices during exams. </a:t>
            </a:r>
            <a:endParaRPr b="0" lang="en-US" sz="1600" spc="-1" strike="noStrike">
              <a:solidFill>
                <a:srgbClr val="000000"/>
              </a:solidFill>
              <a:latin typeface="Constantia"/>
            </a:endParaRPr>
          </a:p>
          <a:p>
            <a:pPr marL="270000" indent="-27000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long-term physical effects of cell phone use are still undetermined. </a:t>
            </a:r>
            <a:endParaRPr b="0" lang="en-US" sz="1600" spc="-1" strike="noStrike">
              <a:solidFill>
                <a:srgbClr val="000000"/>
              </a:solidFill>
              <a:latin typeface="Constantia"/>
            </a:endParaRPr>
          </a:p>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marL="270000" indent="-27000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4617b"/>
                </a:solidFill>
                <a:latin typeface="Arial"/>
                <a:ea typeface="Arial"/>
              </a:rPr>
              <a:t>Website # 2 - http://www.rajputbrotherhood.com/knowledge-hub/articles/should-cell-phones-be-allowed-in-schools.html</a:t>
            </a:r>
            <a:endParaRPr b="0" lang="en-US" sz="2300" spc="-1" strike="noStrike">
              <a:solidFill>
                <a:srgbClr val="04617b"/>
              </a:solidFill>
              <a:latin typeface="Calibri"/>
            </a:endParaRPr>
          </a:p>
        </p:txBody>
      </p:sp>
      <p:sp>
        <p:nvSpPr>
          <p:cNvPr id="202"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ite raised some points that could be of concerned to some readers.</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ite provided lots of embedded links which lead you to advertisements.</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ite indicated that the regular usage of cell phones may affect sense of hearing.  It furthers stated that studies have found that text messages regularly, over a long period of time, could cause repetition strain which may cause both short and long term injuries.  but did not provide its source of reference.</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03" name=""/>
          <p:cNvSpPr txBox="1"/>
          <p:nvPr/>
        </p:nvSpPr>
        <p:spPr>
          <a:xfrm>
            <a:off x="4648320" y="1920960"/>
            <a:ext cx="4038480" cy="4433760"/>
          </a:xfrm>
          <a:prstGeom prst="rect">
            <a:avLst/>
          </a:prstGeom>
          <a:noFill/>
          <a:ln w="0">
            <a:noFill/>
          </a:ln>
        </p:spPr>
        <p:txBody>
          <a:bodyPr lIns="90000" rIns="90000" tIns="46800" bIns="46800" anchor="t">
            <a:normAutofit/>
          </a:bodyPr>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cons</a:t>
            </a:r>
            <a:r>
              <a:rPr b="0" lang="en-US" sz="1800" spc="-1" strike="noStrike">
                <a:solidFill>
                  <a:srgbClr val="000000"/>
                </a:solidFill>
                <a:latin typeface="Arial"/>
                <a:ea typeface="Arial"/>
              </a:rPr>
              <a:t>:</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y may be used for defaming, creating pornographic content, organizing criminal activities </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s use cell phone as a source of bullying others (Cyber bully) which makes it difficult to detect and control.</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4617b"/>
                </a:solidFill>
                <a:latin typeface="Arial"/>
                <a:ea typeface="Arial"/>
              </a:rPr>
              <a:t>Website # 3 –  http://www.journalstar.com/news/opinion/mailbag/article_7dd5b4ec-963f-11de-a9b3-001cc4c03286.html   </a:t>
            </a:r>
            <a:endParaRPr b="0" lang="en-US" sz="2300" spc="-1" strike="noStrike">
              <a:solidFill>
                <a:srgbClr val="04617b"/>
              </a:solidFill>
              <a:latin typeface="Calibri"/>
            </a:endParaRPr>
          </a:p>
        </p:txBody>
      </p:sp>
      <p:sp>
        <p:nvSpPr>
          <p:cNvPr id="205"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is This provided information based on the information gathered by the Pew Research Survey released on August 19, 2009 .</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 pointed out the views of several principals in primary, and secondary schools as well as college students.</a:t>
            </a:r>
            <a:endParaRPr b="0" lang="en-US" sz="1600" spc="-1" strike="noStrike">
              <a:solidFill>
                <a:srgbClr val="000000"/>
              </a:solidFill>
              <a:latin typeface="Constantia"/>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site pointed out that the elementary school students turned in their phones to the teacher for safe keeping during the day and they pick them upon dismissal from school.  And by allowing high school students to use the phone between classes and at lunch reduced the </a:t>
            </a:r>
            <a:r>
              <a:rPr b="0" lang="en-US" sz="1600" spc="-1" strike="noStrike">
                <a:solidFill>
                  <a:srgbClr val="000000"/>
                </a:solidFill>
                <a:latin typeface="Constantia"/>
              </a:rPr>
              <a:t>violations and phone confiscations rate significantly.</a:t>
            </a:r>
            <a:endParaRPr b="0" lang="en-US" sz="1600" spc="-1" strike="noStrike">
              <a:solidFill>
                <a:srgbClr val="000000"/>
              </a:solidFill>
              <a:latin typeface="Constantia"/>
            </a:endParaRPr>
          </a:p>
        </p:txBody>
      </p:sp>
      <p:sp>
        <p:nvSpPr>
          <p:cNvPr id="206" name=""/>
          <p:cNvSpPr txBox="1"/>
          <p:nvPr/>
        </p:nvSpPr>
        <p:spPr>
          <a:xfrm>
            <a:off x="4648320" y="1920960"/>
            <a:ext cx="4038480" cy="4433760"/>
          </a:xfrm>
          <a:prstGeom prst="rect">
            <a:avLst/>
          </a:prstGeom>
          <a:noFill/>
          <a:ln w="0">
            <a:noFill/>
          </a:ln>
        </p:spPr>
        <p:txBody>
          <a:bodyPr lIns="90000" rIns="90000" tIns="46800" bIns="46800"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Pros:</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The cell phone is seen as a critical tool for our daily lives.</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Parents and kids rely on it for communication.</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Some use it as their clock, camera, planner, entertainment system, news source and encyclopedia.</a:t>
            </a:r>
            <a:endParaRPr b="0" lang="en-US" sz="1600" spc="-1" strike="noStrike">
              <a:solidFill>
                <a:srgbClr val="000000"/>
              </a:solidFill>
              <a:latin typeface="Constantia"/>
            </a:endParaRPr>
          </a:p>
          <a:p>
            <a:pPr marL="272880" indent="-272880">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students at Harvard University use cell phones and other wireless technology to respond to and discuss questions in classes ranging from physics to economics to art and drama.</a:t>
            </a:r>
            <a:endParaRPr b="0" lang="en-US" sz="16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4617b"/>
                </a:solidFill>
                <a:latin typeface="Arial"/>
                <a:ea typeface="Arial"/>
              </a:rPr>
              <a:t>Website # 4 - http://www.democraticmedia.org/current_projects/privacy/analysis/mobile_marketing/d/2#ftn138</a:t>
            </a:r>
            <a:endParaRPr b="0" lang="en-US" sz="2300" spc="-1" strike="noStrike">
              <a:solidFill>
                <a:srgbClr val="04617b"/>
              </a:solidFill>
              <a:latin typeface="Calibri"/>
            </a:endParaRPr>
          </a:p>
        </p:txBody>
      </p:sp>
      <p:sp>
        <p:nvSpPr>
          <p:cNvPr id="208" name=""/>
          <p:cNvSpPr txBox="1"/>
          <p:nvPr/>
        </p:nvSpPr>
        <p:spPr>
          <a:xfrm>
            <a:off x="457200" y="2133360"/>
            <a:ext cx="4038480" cy="4221000"/>
          </a:xfrm>
          <a:prstGeom prst="rect">
            <a:avLst/>
          </a:prstGeom>
          <a:noFill/>
          <a:ln w="0">
            <a:noFill/>
          </a:ln>
        </p:spPr>
        <p:txBody>
          <a:bodyPr lIns="90000" rIns="90000" tIns="46800" bIns="46800" anchor="t">
            <a:normAutofit/>
          </a:bodyPr>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ite contained a great amount of information that was supported by links to various surveys and research that was conducted.</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ite contained a lot of endnote and footnotes that took you directly into the reference point and/or source for providing the information.</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good thing about this site is that it did not contain any advertisements.  </a:t>
            </a:r>
            <a:endParaRPr b="0" lang="en-US" sz="1800" spc="-1" strike="noStrike">
              <a:solidFill>
                <a:srgbClr val="000000"/>
              </a:solidFill>
              <a:latin typeface="Constantia"/>
            </a:endParaRPr>
          </a:p>
        </p:txBody>
      </p:sp>
      <p:sp>
        <p:nvSpPr>
          <p:cNvPr id="209" name=""/>
          <p:cNvSpPr txBox="1"/>
          <p:nvPr/>
        </p:nvSpPr>
        <p:spPr>
          <a:xfrm>
            <a:off x="4648320" y="2133360"/>
            <a:ext cx="4038480" cy="4221000"/>
          </a:xfrm>
          <a:prstGeom prst="rect">
            <a:avLst/>
          </a:prstGeom>
          <a:noFill/>
          <a:ln w="0">
            <a:noFill/>
          </a:ln>
        </p:spPr>
        <p:txBody>
          <a:bodyPr lIns="90000" rIns="90000" tIns="46800" bIns="46800" anchor="t">
            <a:normAutofit/>
          </a:bodyPr>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Pros: </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eens believes that their cell phone provided a sense of security while on the go.</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Cell phone has become their mobile safety net when needing a ride.</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Getting important information for school projects.</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elping out someone in trouble.</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eens viewed their cell phone as the key to their social life.</a:t>
            </a:r>
            <a:endParaRPr b="0" lang="en-US" sz="1800" spc="-1" strike="noStrike">
              <a:solidFill>
                <a:srgbClr val="000000"/>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Teens carry cell phones to have access to friends, family and current event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8190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Arial"/>
                <a:ea typeface="Arial"/>
              </a:rPr>
              <a:t>Web References</a:t>
            </a:r>
            <a:endParaRPr b="0" lang="en-US" sz="5400" spc="-1" strike="noStrike">
              <a:solidFill>
                <a:srgbClr val="04617b"/>
              </a:solidFill>
              <a:latin typeface="Calibri"/>
            </a:endParaRPr>
          </a:p>
        </p:txBody>
      </p:sp>
      <p:sp>
        <p:nvSpPr>
          <p:cNvPr id="211" name=""/>
          <p:cNvSpPr txBox="1"/>
          <p:nvPr/>
        </p:nvSpPr>
        <p:spPr>
          <a:xfrm>
            <a:off x="457200" y="1676160"/>
            <a:ext cx="8229600" cy="464796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http://life,familyeducation.com/cellular-telephone/school/51264.html</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http://www.rajputbrotherhood.com/knowledge-hub/articles/should-cell-phones-be-allowed-in-schools.htm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Arial"/>
                <a:ea typeface="Arial"/>
              </a:rPr>
              <a:t>http://www.journalstar.com/news/opinion/mailbag/article_7dd5b4ec-963f-11de-a9b3-001cc4c03286.html</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http://www.democraticmedia.org/current_projects/privacy/analysis/mobile_marketing/d/2</a:t>
            </a:r>
            <a:endParaRPr b="0" lang="en-US" sz="24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2T16:52:36Z</dcterms:created>
  <dc:creator>Donna Christian</dc:creator>
  <dc:description/>
  <dc:language>en-US</dc:language>
  <cp:lastModifiedBy>Donna Christian</cp:lastModifiedBy>
  <dcterms:modified xsi:type="dcterms:W3CDTF">2009-11-22T21:24:22Z</dcterms:modified>
  <cp:revision>28</cp:revision>
  <dc:subject/>
  <dc:title>Should Cell Phone be Allowed in Schools.</dc:title>
</cp:coreProperties>
</file>